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5200" y="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17960" cy="3687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04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936000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FE2F-3A9E-4AFD-8704-DD382A539D3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202B2-134B-4FD9-8455-AE9FE316E7B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74D6-EF02-4250-9E4F-C53EBDE96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E7679-6924-415B-97BA-378F694C62A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turns red lights to gree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ha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fundamental added valu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: without the EU grant a project would not have seen the day at all, only at a later stage or at an unsustainable cost for the partner country, or the project reaches more beneficiaries that otherwise would have been ex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also promotes use of international standards and financing partners have to reach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U's environmental and social standards as well as assure transparent and fair tend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2D5CD-4B17-4E21-9435-27D662BF22F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can be use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 different forms such as direct investment, interest rate subsidy, technical assistance, risk capital or guarante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Each project will have specific needs, also taking into account the financing capacity of partner countries and taking into account debt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2DECF-067A-4FF2-8D3C-3E5CD55068C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BC2F-025E-4EF3-B35D-8F9E9235699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ECB3D-F511-4C4C-9E2E-337748E780F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3C0C-F156-4461-89ED-2312F94D8E0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31362-E3F4-4E0E-9548-0AD19A2D8B1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3A38E-6631-4DB7-B90F-6150DDC58EF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88E82-74A7-4C05-89DD-3926B6B8315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6119-3768-4B73-8919-5AA2A3E5E3E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A7AA5-45CC-4CC4-A617-284E5823F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BCE0C-E92A-4EB4-A11B-0820071C85A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A12EA-C87C-46A5-8104-05B18015DB1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37BA-7149-4A45-9A58-1DEAEF59B17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9AE1A-185E-4F1B-B796-7C4DF78E081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E3050-B249-42AB-AF3B-419F818D685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E83E-ECFE-48D5-9101-52B32BA13C8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cooperates with many different financing partners such as European public finance institutions, regional and international development banks and private financiers. In doing so, it encourag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nor and lender coordin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and enhances policy coherence and aid effectiven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C893-1BEA-44A7-9BB0-05D433906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A5E2-9629-4004-96B6-C86FB3845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3131-9126-4544-9281-B5F2A83D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8641-5D0E-4F42-A4D8-D54108141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5B7D-69B0-4059-9A55-5019AFF12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33A2-794D-47F2-B284-86D4D5F68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715F-823D-4D81-9B57-8232885EB0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05E7-3427-4534-B973-E64AC60DA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F799-96D9-4E6F-8B0E-AEF18EA12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2987-F3FA-42A8-A308-2FE29F6A3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A443-C845-406B-85DD-621A2B890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7DF9-BE5E-451B-A77C-B174CC99D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E446-4219-4273-82D3-E2652C30F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7D6C-CB86-4BAC-A9AA-60F069EB5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D64E-0C1F-4BF2-8FC3-EA00657DD7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616C-BC93-4480-B907-60CC29111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B530-6E86-4E4E-B963-5A5D1244A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E626-8C95-4786-8CBD-CDB0DA366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EBC3-2B40-4442-A705-1EA1F99F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B21E-0A9F-49BE-B5A5-A37FB86B7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D87C-2FCD-4A63-8F4D-6F9A6DDC1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9BE8-258C-4E6A-8B6E-82CEFE64E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657F-5DDD-4066-82FF-BA256ACE6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6A59-3165-4394-A676-E81D5A4B8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f5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0B1C2-AAA8-4884-87F1-0AB9311ADDB3}" type="slidenum">
              <a:rPr b="0" lang="en-GB" sz="2400" spc="-1" strike="noStrike">
                <a:solidFill>
                  <a:srgbClr val="0f549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088633-E3E8-4DB1-8C68-85398DE31B9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31640" y="1052640"/>
            <a:ext cx="871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32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i="1" lang="fr-BE" sz="4800" spc="-1" strike="noStrike">
                <a:solidFill>
                  <a:srgbClr val="ffd624"/>
                </a:solidFill>
                <a:latin typeface="Arial"/>
                <a:ea typeface="Arial"/>
              </a:rPr>
              <a:t>"Blending" in the Pacific</a:t>
            </a:r>
            <a:br>
              <a:rPr sz="24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11280" y="4724280"/>
            <a:ext cx="85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Ioannis-Pavlos Evangelid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EU Delegation for the Pacif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14 April 2014, EU Seminar, Nad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1"/>
          <p:cNvSpPr/>
          <p:nvPr/>
        </p:nvSpPr>
        <p:spPr>
          <a:xfrm flipV="1">
            <a:off x="3276720" y="16189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2"/>
          <p:cNvSpPr/>
          <p:nvPr/>
        </p:nvSpPr>
        <p:spPr>
          <a:xfrm flipH="1" rot="10800000">
            <a:off x="5794920" y="2876040"/>
            <a:ext cx="957240" cy="274680"/>
          </a:xfrm>
          <a:prstGeom prst="rightArrow">
            <a:avLst>
              <a:gd name="adj1" fmla="val 50000"/>
              <a:gd name="adj2" fmla="val 50176"/>
            </a:avLst>
          </a:prstGeom>
          <a:solidFill>
            <a:srgbClr val="00b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875640" y="2124000"/>
            <a:ext cx="1590480" cy="173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078440" y="2124000"/>
            <a:ext cx="1573200" cy="1739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4920" y="2448000"/>
            <a:ext cx="29545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95200" y="4222800"/>
            <a:ext cx="2692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urning red ligh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o gr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54440" y="4510080"/>
            <a:ext cx="504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ressing risks, ensuring project financial sustainability, ensuring social and environmental returns, addressing capacity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140360" y="1557360"/>
            <a:ext cx="48243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rect investment grant and interest rate subsi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 and investment prepar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isk capit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uarantee mechanis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innovative financial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fferent type of support to address different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ffd624"/>
                </a:solidFill>
                <a:latin typeface="Arial"/>
                <a:ea typeface="Arial"/>
              </a:rPr>
              <a:t>IFP PROJECTS SUBMISSION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3c8c93"/>
                </a:solidFill>
                <a:latin typeface="Arial"/>
                <a:ea typeface="Arial"/>
              </a:rPr>
              <a:t>Who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356000" y="1628640"/>
            <a:ext cx="4103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ligible Finance Institution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submit project proposals as Lead Financie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ultilater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ropean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 (e.g. EIB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uropean public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s from Member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ates (e.g. AFD, KfW, …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acific Region Infrastructure Facility (PRIF) member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an participate in consortia with Eligible Finance Institution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sian Development Bank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articipates in IFP meetings as observ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8360" y="4335480"/>
            <a:ext cx="2979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494160" y="2355840"/>
            <a:ext cx="792000" cy="285840"/>
          </a:xfrm>
          <a:prstGeom prst="rightArrow">
            <a:avLst>
              <a:gd name="adj1" fmla="val 50000"/>
              <a:gd name="adj2" fmla="val 69270"/>
            </a:avLst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1"/>
          <p:cNvSpPr/>
          <p:nvPr/>
        </p:nvSpPr>
        <p:spPr>
          <a:xfrm flipV="1">
            <a:off x="363528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Blending is 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aid moda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8360" y="443700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must adhere to the same principles as other aid modal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22560" y="1185840"/>
            <a:ext cx="482616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Any project will meet the following condition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oject is 100% in line with agreed policy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Environmental &amp; social standards are m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eservation of macro-economic st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Market distortions are avoi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Additionality of grant element (ensuring viability, delivering for the poor, improved qualit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98440" indent="-4539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1341360"/>
            <a:ext cx="838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vestment Facility for the Pacific</a:t>
            </a:r>
            <a:br>
              <a:rPr sz="30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IFP grant funding for 2013: €10 mill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12840" y="2924280"/>
            <a:ext cx="1450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 algn="just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50920" y="2924280"/>
            <a:ext cx="19476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Cook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Fij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Kiribat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arshall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icronesi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au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iu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824360" cy="3520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347760"/>
          <a:ext cx="9148680" cy="403200"/>
        </p:xfrm>
        <a:graphic>
          <a:graphicData uri="http://schemas.openxmlformats.org/drawingml/2006/table">
            <a:tbl>
              <a:tblPr/>
              <a:tblGrid>
                <a:gridCol w="9148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8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267680" y="2924280"/>
            <a:ext cx="18651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la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pua New Guine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amo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olomon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ong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imor Les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uval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Vanuat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851280" y="1341360"/>
            <a:ext cx="5113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reated in 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rant Funds available in 2013: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€10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hree project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ave receive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visional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approval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ji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– technical assistance(framework for the energy sector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Samoa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– investment grant (Faleolo Airport Safety improvements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imor Lest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- technical assistance framework in the infrastructure and/or financial sec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11th EDF Financial framework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under discussion (indicative amount of </a:t>
            </a: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€46 m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for the EU-Pacific Investment </a:t>
            </a:r>
            <a:r>
              <a:rPr b="1" lang="fr-FR" sz="1800" spc="-1" strike="noStrike">
                <a:solidFill>
                  <a:srgbClr val="3c8c93"/>
                </a:solidFill>
                <a:latin typeface="Verdana"/>
              </a:rPr>
              <a:t>Programme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tate of 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vestment Facility in Pacif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8000" y="24922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uture of blending operation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995640" y="1341360"/>
            <a:ext cx="417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Increased involvement of regional financial institu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Catalyse private financing, FDI or domestic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lore innovative risk sharing mechanisms (structured funds, guarantee mechanism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and partnerships and cooper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440" y="407664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urther exploit the pot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6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140360" y="1413000"/>
            <a:ext cx="4824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lending window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Loa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posals as in the present Facility (IFP), open to all P-ACP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pecific window,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pen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Gra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posal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Ensuring access to investment funds for LDC-SIDS which cannot take loans (e.g. because of debt stres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Access/eligibility criteri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Priorities/selection criteria: minimum financing threshold, financing leverage, regional focal sectors and complementa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  <a:ea typeface="Microsoft YaHei"/>
              </a:rPr>
              <a:t>Example: ACSE Catalytic Compon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Aft>
                <a:spcPts val="1199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03320" y="4365720"/>
            <a:ext cx="3311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Leveraging investments   through the Regional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Investment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Program 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 Pacific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(IPP)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224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: elig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684360" y="213372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Aim: avoid crowding out non-grant financ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EcoFin criteria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DC/ highly vulnerable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untries with low fiscal space or high debt str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Very small market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with low or unclear financial benefits but clearly demonstrable economic, environmental or social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riteria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of particularly high risk that needs mitig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 region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iance to the regional focal sec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Minimum financing thresho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Blendin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6836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U Grants leveraging other resources into a single pack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74285-E124-45A5-BA7F-B6CD0FB9E9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658800" y="3357720"/>
            <a:ext cx="7556400" cy="2658960"/>
            <a:chOff x="658800" y="3357720"/>
            <a:chExt cx="7556400" cy="2658960"/>
          </a:xfrm>
        </p:grpSpPr>
        <p:sp>
          <p:nvSpPr>
            <p:cNvPr id="104" name="Oval 5"/>
            <p:cNvSpPr/>
            <p:nvPr/>
          </p:nvSpPr>
          <p:spPr>
            <a:xfrm>
              <a:off x="787320" y="3996720"/>
              <a:ext cx="254340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uropean Un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nt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377520" y="3966480"/>
              <a:ext cx="212184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inanci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itution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s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5545080" y="4146120"/>
              <a:ext cx="2543400" cy="99468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ther re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658800" y="3357720"/>
              <a:ext cx="7556400" cy="2658960"/>
            </a:xfrm>
            <a:prstGeom prst="ellipse">
              <a:avLst/>
            </a:prstGeom>
            <a:noFill/>
            <a:ln cap="sq" w="507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24591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iorities/selection criteria: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Financial le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ementarity to national focal sectors/strateg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lassic project appraisal crite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http://www.mmbgims.com/Images/Selection%20Criteria.png"/>
          <p:cNvPicPr/>
          <p:nvPr/>
        </p:nvPicPr>
        <p:blipFill>
          <a:blip r:embed="rId1"/>
          <a:stretch/>
        </p:blipFill>
        <p:spPr>
          <a:xfrm>
            <a:off x="3062160" y="4005360"/>
            <a:ext cx="2876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8440" y="1125360"/>
            <a:ext cx="8223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to answ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4360" y="17733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much from the EUR 46m into the IFP and how much into the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Split the IPP into allocated fixed envelopes for grant/loan or grant/grant financ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to measure fiscal space or stress debt? IMF/WB definitions? U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Who is eligible to co-finance under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imit sectors to the regional focal area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) sustainable management of natural resources, more specifically marine resources and waste mana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i) regional economic integration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question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9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11160" y="126828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D5CC0-C515-49AB-8FB8-66CD5E4387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313EC-AF24-4EBD-B8F8-2C7918C7C58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95560" y="1341360"/>
            <a:ext cx="50832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5F70A-6707-4DDB-B8DC-B044041F767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786120" y="1341360"/>
            <a:ext cx="50720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CLIMATE CHA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393372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ross cutting sector in the blending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067280" y="1700280"/>
            <a:ext cx="4680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CLIMATE CHANGE WINDOWS</a:t>
            </a: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 were announced in November 2010. They allow transparent tracking of climate change related projects in the EU regional blending facilities.  Contributions to climate change are tracked according to Rio markers - an internationally agreed system for tracking aid contributions with climate objectiv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092480" y="3863880"/>
            <a:ext cx="46548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More than €600 million in grants committed under the  EU regional blending facilities is counted as supporting climate change action (over 40% of all commitment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Additional €17 million from the ENRTP to the Neighbourhood and Latin America Investment Faciliti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402D-C9F0-48CA-AC91-7C75B157DD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SECTORS COVE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12640" y="411948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umulative Fig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since incep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for all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995640" y="1917720"/>
            <a:ext cx="4630680" cy="3892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2A622-33BB-4129-B58B-E96A5EFC32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995640" y="1917720"/>
            <a:ext cx="46134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"/>
          <p:cNvSpPr/>
          <p:nvPr/>
        </p:nvSpPr>
        <p:spPr>
          <a:xfrm flipV="1">
            <a:off x="3564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348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Objectives of Blending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Arial"/>
              </a:rPr>
              <a:t>Leverag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708360" y="1989000"/>
            <a:ext cx="511164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obilize public and private resources for enhanced development impa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ON-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project sustainability quality and spe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upport reforms in line with EU polic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ID EFFECTIVENES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cooperation between European and non-European aid actors (donors and financial institution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buClr>
                <a:srgbClr val="0f5494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4920" y="244800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4294080"/>
            <a:ext cx="3124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inding the right financing mix to enable sustainable proj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067280" y="1700280"/>
            <a:ext cx="468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0EF7-9EF3-4469-9043-5741FDEB3F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3280" y="1700280"/>
          <a:ext cx="3821400" cy="4321080"/>
        </p:xfrm>
        <a:graphic>
          <a:graphicData uri="http://schemas.openxmlformats.org/drawingml/2006/table">
            <a:tbl>
              <a:tblPr/>
              <a:tblGrid>
                <a:gridCol w="3821400"/>
              </a:tblGrid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Development proje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financing mi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Own funds (partner countr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Private financi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Non-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Grants from other don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 grant resour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GC &amp; PEFA Secretariat</dc:creator>
  <dc:description/>
  <cp:keywords>PEFA Workshop-Brussels</cp:keywords>
  <dc:language>en-US</dc:language>
  <cp:lastModifiedBy>Pavlos</cp:lastModifiedBy>
  <cp:lastPrinted>2014-02-20T16:12:18Z</cp:lastPrinted>
  <dcterms:modified xsi:type="dcterms:W3CDTF">2014-05-13T23:34:04Z</dcterms:modified>
  <cp:revision>497</cp:revision>
  <dc:subject/>
  <dc:title>Slide 1</dc:title>
</cp:coreProperties>
</file>